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49E5-5494-4430-A544-A5AE537E3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5271-3A07-4A8B-A775-CF84171437B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the idea of 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what type of system we liv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examples from students about the animals and plants around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F1A9-AC1B-46D8-89EF-2543752AB00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5D1-32FD-43DC-8F70-E4422E0F557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FFA-3096-4C26-8674-789B635C6187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AE6-E1E1-4CE3-B468-54DFCD3F66C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859-6CD7-4584-8FD0-11454E87A62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CA42-559C-49B2-9CF6-A3609352635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4F7E-8DD4-4732-AECF-6F882CFE53C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C733-15C9-4F69-9558-351ED996A1D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F243-8DDC-4843-A1A7-8DAD6F8C3F4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02F5-70FB-4D63-86A2-596006B981A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E7F-8C93-4AD3-A641-1EF398F2566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4B6A-D184-4DF5-8C7C-34EBBF8740C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A3DE-7898-4132-8880-53F2A4C710DE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1355-162C-4362-97EF-559FC7308CF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7929-5CC7-46F8-A0FF-06BD82D5DA4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DFFD-7369-4FF0-803D-84AD9925901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46D-6E76-4BE9-BB60-60DD0523432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D45-1244-480F-877E-5627996755D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281-BB7D-4B59-9A3B-97BE31472F8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867A-0D6E-4AE2-B8C1-34151D4CA536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2FD-C161-4CE3-8BD9-C1514063516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0A7-9DDC-4C6F-B0D0-DA8194F680B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1EC1-C57C-4244-A756-B374DA5FA21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DA6-5EC1-4851-8DF2-CDF93D43263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2A6B-7BFC-436B-863F-4837DFA57F1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947-66DF-4137-A206-100A74526C94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8A2E-76EE-47AC-AE0A-E9A7B7BFE23C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F68-524D-436B-B5E2-F97F041BCD3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5DE-4831-4BCC-A67B-339FD49001E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357E-782F-4B28-A519-1885D6D1F3C2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9CC5-539F-4899-88FF-253C7F65CBBA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81C-C634-4D44-BE39-D4697F5F06C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E29-3D2C-46A1-ABC2-D1507FE55FD1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2A19-27B4-4D9A-9C60-F6D5FECBD9C9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8BE-C474-41E0-B1F3-D7811794D615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DADB-83FB-4D7E-BF0F-E6443815BCB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71B-A2AA-4533-870B-6208D50FBB1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FE03-7EFF-4291-859B-3FDCE8B1A838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B847-C60A-4243-AA29-B040A7CDBCF3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537-74B8-460E-BC8A-9C028CE453DD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D43C-540A-4F11-B5A8-4191F9AFF77B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5A0E-5133-47CE-941E-16895169213F}" type="slidenum">
              <a:rPr b="0" lang="en-US" sz="1200" spc="-1" strike="noStrike">
                <a:solidFill>
                  <a:srgbClr val="212164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6D1-F561-467A-B4E5-17A13F7F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E53-C002-43D9-B923-224B50CB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EEA-60DD-4946-842C-A7D7E5A5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826-73BE-4439-9F51-CBC553B0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41BC-A9BF-464E-B97F-352BFA7D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2126-2BAD-42A3-B15B-81A8493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75C3-5145-4AA9-B19F-228B898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EC64-72C3-4178-B2AE-F343163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BF8A-2243-4673-90B4-DC324F78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5D2-0154-4D85-8E48-94454F8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ED3D-E42E-4813-9B22-74C7FAF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29E5-59B1-40BB-8910-273DF023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3D32-81B7-4738-818A-C140523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06B9-BA48-42F0-85F1-E307C21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6614-D2B0-4F01-AE6B-79A64E9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7687-3248-41E9-82BA-F807B5D4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445A-47BB-40AA-A521-96CBE97F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91F-5C53-463D-A44D-56E81EFD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0CB-2EA8-42D0-9A6D-2B302AD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970-0E5A-473F-B557-8F73E31F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9CB-5AA5-47BC-A918-4404B96F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211-1EE3-4B5E-A462-EA711DF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F5F-53C4-45FF-AC1C-1E4F31C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8E2-722D-4F19-9075-25874780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129D-E8D2-4F45-9259-FD1B78D12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6EC-CD27-4261-90D6-18F4123302D1}" type="slidenum">
              <a:rPr b="0" lang="en-US" sz="1400" spc="-1" strike="noStrike">
                <a:solidFill>
                  <a:srgbClr val="5d220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Ecolog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Tahoma"/>
              </a:rPr>
              <a:t>the study of ecosystem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Marine (Salt Wat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Oceans &amp; Estuari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ypes of Organisms:  Kelp, Whales, Dolphins, Sharks, Tuna, Crabs, Shrimp, Lobsters, Salmon, Eels, Plankton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Zones: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there is the presence of light from the sun (plants can grow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reas in which no light from the sun is present (very few organisms live in this zone)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4038480" y="59436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Marine</a:t>
            </a: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Tahoma"/>
            </a:endParaRPr>
          </a:p>
        </p:txBody>
      </p:sp>
      <p:pic>
        <p:nvPicPr>
          <p:cNvPr id="122" name="Aquatic__Marine_Biomes.mov" descr="/Network/Servers/xserve.aloysius.lan/Volumes/Data/Homes/Faculty/dfogel/Documents/All Clases/Streaming Videos/Ecology/Biomes/Aquatic__Marine_Biomes.mov"/>
          <p:cNvPicPr/>
          <p:nvPr/>
        </p:nvPicPr>
        <p:blipFill>
          <a:blip r:embed="rId1"/>
          <a:stretch/>
        </p:blipFill>
        <p:spPr>
          <a:xfrm>
            <a:off x="2133720" y="1905120"/>
            <a:ext cx="5181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6642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Wetlands, Rivers, Streams, Ponds, Lakes, &amp; Creek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ypes of Organisms:  Algae, Muskrats, Ducks, Geese, Fish, Pike, Carp, Bass, &amp; Catfish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/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52680" y="59436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Fresh Water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Aquatic__Fresh_Water_Biomes.mov" descr="/Network/Servers/xserve.aloysius.lan/Volumes/Data/Homes/Faculty/dfogel/Documents/All Clases/Streaming Videos/Ecology/Biomes/Aquatic__Fresh_Water_Biomes.mov"/>
          <p:cNvPicPr/>
          <p:nvPr/>
        </p:nvPicPr>
        <p:blipFill>
          <a:blip r:embed="rId1"/>
          <a:stretch/>
        </p:blipFill>
        <p:spPr>
          <a:xfrm>
            <a:off x="1981080" y="19051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14258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Aquatic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Estuary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shallow area where salt water and fresh water mix </a:t>
            </a:r>
            <a:r>
              <a:rPr b="0" i="1" lang="en-US" sz="2400" spc="-1" strike="noStrike">
                <a:solidFill>
                  <a:srgbClr val="212164"/>
                </a:solidFill>
                <a:latin typeface="Tahoma"/>
              </a:rPr>
              <a:t>(where a river or stream meets the ocean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164"/>
                </a:solidFill>
                <a:latin typeface="Tahoma"/>
              </a:rPr>
              <a:t>Wetland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 area where fresh water, salt water, and land mix (marshes, swamps, and bogs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Location:  northern North America, northern Europe, northern As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limate:  Cold, ground stays covered in snow, permafrost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permanent frozen layer of ground, scarce rainfall, very short summ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mosses, lichens, small plants that do need a lot of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caribou, migrating birds (come for the short summer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85840" y="5790960"/>
            <a:ext cx="1981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undr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6" name="Tundra.mov" descr="/Network/Servers/xserve.aloysius.lan/Volumes/Data/Homes/Faculty/dfogel/Documents/All Clases/Streaming Videos/Ecology/Biomes/Tundra.mov"/>
          <p:cNvPicPr/>
          <p:nvPr/>
        </p:nvPicPr>
        <p:blipFill>
          <a:blip r:embed="rId1"/>
          <a:stretch/>
        </p:blipFill>
        <p:spPr>
          <a:xfrm>
            <a:off x="1981080" y="1905120"/>
            <a:ext cx="5083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2722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near the Equator, Africa, &amp;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and Humid, rains everyda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ropical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Jungle (think Tarzan), very tall trees, thick vegetation on the ground, dense canopy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parrots, Apes, Toucans, Monkeys, Leopards, other predatory Cats, Snake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Ecology is the study of organisms and their interaction with the environment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 organism is any living thing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Examples:  Humans, animals, plant, bacteri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5790960"/>
            <a:ext cx="446076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emperate Rain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3" name="Temperate_Rain_Forest.mov" descr="/Network/Servers/xserve.aloysius.lan/Volumes/Data/Homes/Faculty/dfogel/Documents/All Clases/Streaming Videos/Ecology/Biomes/Temperate_Rain_Forest.mov"/>
          <p:cNvPicPr/>
          <p:nvPr/>
        </p:nvPicPr>
        <p:blipFill>
          <a:blip r:embed="rId1"/>
          <a:stretch/>
        </p:blipFill>
        <p:spPr>
          <a:xfrm>
            <a:off x="1981080" y="167652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1525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4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Canada, Washington (State), Russia, Chin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cold Winters, short Summers, frequent Rain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Conifer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Evergreens (think Christmas Trees), Pines, Spruces, Cedars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Moose, Bear, Lynx, Hibernating Animals, Migrating Animal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eastern United States (think about where we live), most of Europe, Australi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 Summers, cold Winters, Rainfall throughout the yea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Trees that lose their leaves, Maples, Oaks, Hickories, Sycamores, Willow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Bears, Foxes, Raccoons, Deer, Squirrels, Bir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124080" y="5790960"/>
            <a:ext cx="3276720" cy="5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Deciduous Fores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4" name="Temperate_Deciduous_Forest.mov" descr="/Network/Servers/xserve.aloysius.lan/Volumes/Data/Homes/Faculty/dfogel/Documents/All Clases/Streaming Videos/Ecology/Biomes/Temperate_Deciduous_Forest.mov"/>
          <p:cNvPicPr/>
          <p:nvPr/>
        </p:nvPicPr>
        <p:blipFill>
          <a:blip r:embed="rId1"/>
          <a:stretch/>
        </p:blipFill>
        <p:spPr>
          <a:xfrm>
            <a:off x="2209680" y="190656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99458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Africa (think Scorpion King or the Mummy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Hot, can snow at night, sparse Rainfal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Plants:  Succulent Plants (retain water in the leaves), Cacti, and small Shrub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nimals:  Lizards, Snakes, small Rodents, other Rodent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90760" y="5790960"/>
            <a:ext cx="1447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1" name="Desert.mov" descr="/Network/Servers/xserve.aloysius.lan/Volumes/Data/Homes/Faculty/dfogel/Documents/All Clases/Streaming Videos/Ecology/Biomes/Desert.mov"/>
          <p:cNvPicPr/>
          <p:nvPr/>
        </p:nvPicPr>
        <p:blipFill>
          <a:blip r:embed="rId1"/>
          <a:stretch/>
        </p:blipFill>
        <p:spPr>
          <a:xfrm>
            <a:off x="2133720" y="1981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27028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Location:  Midwest United States (think Little House on the Prairie), Africa (think the Lion King), Asia, South Americ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limate:  long dry periods with occasional fir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Biospher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The biosphere is the living worl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ncludes any organisms that are found in the air, on land, or in the water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Plants:  several species of Grasses, scattered Trees, and Wildflower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nimals:  burrow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Rabbits, Moles, &amp; Rodents, grazing Animals </a:t>
            </a: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 Buffalo, Zebras, and Giraffes, Lions, and Hyena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Grassland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68" name="Grassland.asx" descr=""/>
          <p:cNvPicPr/>
          <p:nvPr/>
        </p:nvPicPr>
        <p:blipFill>
          <a:blip r:embed="rId1"/>
          <a:stretch/>
        </p:blipFill>
        <p:spPr>
          <a:xfrm>
            <a:off x="1627200" y="1981080"/>
            <a:ext cx="56926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Chaparra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1" name="Chap.asx" descr=""/>
          <p:cNvPicPr/>
          <p:nvPr/>
        </p:nvPicPr>
        <p:blipFill>
          <a:blip r:embed="rId1"/>
          <a:stretch/>
        </p:blipFill>
        <p:spPr>
          <a:xfrm>
            <a:off x="1862280" y="2048040"/>
            <a:ext cx="5378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Land 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aiga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4" name="Taiga.asx" descr=""/>
          <p:cNvPicPr/>
          <p:nvPr/>
        </p:nvPicPr>
        <p:blipFill>
          <a:blip r:embed="rId1"/>
          <a:stretch/>
        </p:blipFill>
        <p:spPr>
          <a:xfrm>
            <a:off x="1627200" y="1981080"/>
            <a:ext cx="5654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 Re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81280" y="571464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77" name="Biome Review.asx" descr=""/>
          <p:cNvPicPr/>
          <p:nvPr/>
        </p:nvPicPr>
        <p:blipFill>
          <a:blip r:embed="rId1"/>
          <a:stretch/>
        </p:blipFill>
        <p:spPr>
          <a:xfrm>
            <a:off x="1236600" y="1981080"/>
            <a:ext cx="64357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Tahoma"/>
              </a:rPr>
              <a:t>Chapter 21, Part 2 Not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2204"/>
                </a:solidFill>
                <a:latin typeface="Tahoma"/>
              </a:rPr>
              <a:t>Relationships Among Living Thing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organize living things into groups to make it easier to study ecosystem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a group of the same type of organisms living in the same plac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of the populations that live in an area make up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want to know 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 population, where its members live, and how it is able to stay alive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determin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opul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densit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by comparing the size of a population with its area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cologists us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ag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to study populations of animals that travel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Populations do not have enough resources to grow larger and larger forev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ngs that limit the size of a population are called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ing factor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Limiting factors includ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oo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ving sp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, and othe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ost common interactions in a community ar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feeding interactions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Organisms will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any resources that is in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limited suppl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great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population siz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n an area,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the greater t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competi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for resour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The Ecosystem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self supporting area composed of living and nonliving things such as the Rain Forest or the Deser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produces energy, transfers energy, decomposes, and recycle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t made up of two (2) types of factors: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Biotic and Abiotic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ion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is the act of one organism feeding on anoth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of prey, such as a falcon, is an example of a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dato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field mouse is an example of a flacon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rey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-- the organism it eats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When the African tickbird eats insects off an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,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oth organisms benefit. 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Symbiotic or</a:t>
            </a:r>
            <a:r>
              <a:rPr b="1" lang="en-US" sz="2800" spc="-1" strike="noStrike">
                <a:solidFill>
                  <a:srgbClr val="8700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mutual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486400" y="4419720"/>
            <a:ext cx="2971800" cy="186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4038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Insects biting a zebra</a:t>
            </a:r>
            <a:r>
              <a:rPr b="0" lang="ja-JP" sz="32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 skin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harm 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zebra, but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 benefit themselves. 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parasitism</a:t>
            </a:r>
            <a:r>
              <a:rPr b="1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 bird that builds its nest in a tree benefits but the tree i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eithe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rm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or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elped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212164"/>
                </a:solidFill>
                <a:latin typeface="Arial"/>
              </a:rPr>
              <a:t>commensalism</a:t>
            </a: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elationships Among Living Things</a:t>
            </a: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(cont</a:t>
            </a:r>
            <a:r>
              <a:rPr b="1" lang="ja-JP" sz="2000" spc="-1" strike="noStrike">
                <a:solidFill>
                  <a:srgbClr val="212164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212164"/>
                </a:solidFill>
                <a:latin typeface="Arial"/>
              </a:rPr>
              <a:t>d)</a:t>
            </a:r>
            <a:endParaRPr b="1" lang="en-US" sz="20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Each type of organism has a different role to play in an ecosystem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rol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of an organism in an ecosystem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nich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 where an organism lives out its life is called its </a:t>
            </a: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habitat</a:t>
            </a: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A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are non living parts of the environment such as rocks, the sun, and temperature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3" name="Picture 4" descr="0254-river-rocks"/>
          <p:cNvPicPr/>
          <p:nvPr/>
        </p:nvPicPr>
        <p:blipFill>
          <a:blip r:embed="rId1"/>
          <a:stretch/>
        </p:blipFill>
        <p:spPr>
          <a:xfrm>
            <a:off x="4038480" y="20574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Biotic Factor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The living parts of the environment such as plants, bacteria, and animals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6" name="Picture 8" descr="black_lab1"/>
          <p:cNvPicPr/>
          <p:nvPr/>
        </p:nvPicPr>
        <p:blipFill>
          <a:blip r:embed="rId1"/>
          <a:stretch/>
        </p:blipFill>
        <p:spPr>
          <a:xfrm>
            <a:off x="4495680" y="4043520"/>
            <a:ext cx="4334040" cy="2814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Picture 11" descr="040525-pintails_800"/>
          <p:cNvPicPr/>
          <p:nvPr/>
        </p:nvPicPr>
        <p:blipFill>
          <a:blip r:embed="rId2"/>
          <a:stretch/>
        </p:blipFill>
        <p:spPr>
          <a:xfrm>
            <a:off x="533520" y="2590920"/>
            <a:ext cx="38145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Community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ahoma"/>
              </a:rPr>
              <a:t>Is composed of all of the populations of different organisms living together in a given are such as your lawn (contains grass, insects, and worms)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212164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Tahoma"/>
              </a:rPr>
              <a:t>A population is a group of organisms that belong to the same species &amp; live in a given area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212164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2164"/>
                </a:solidFill>
                <a:latin typeface="Tahoma"/>
              </a:rPr>
              <a:t>Ex:  heard of cattle of a gaggle of geese</a:t>
            </a: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121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Tahoma"/>
              </a:rPr>
              <a:t>Biome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2121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Tahoma"/>
              </a:rPr>
              <a:t>Is a major type of ecosystem with its own temperature ranges, rainfall amounts, and types of organism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4" descr="rainforest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5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esert-scrub-australia-web"/>
          <p:cNvPicPr/>
          <p:nvPr/>
        </p:nvPicPr>
        <p:blipFill>
          <a:blip r:embed="rId2"/>
          <a:stretch/>
        </p:blipFill>
        <p:spPr>
          <a:xfrm>
            <a:off x="4876920" y="3813120"/>
            <a:ext cx="380988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Ecosystem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Tahoma"/>
              </a:rPr>
              <a:t>Biom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Aquatic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2164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8:56:56Z</dcterms:created>
  <dc:creator>Administrator</dc:creator>
  <dc:description/>
  <dc:language>en-US</dc:language>
  <cp:lastModifiedBy>St. Aloysius</cp:lastModifiedBy>
  <dcterms:modified xsi:type="dcterms:W3CDTF">2013-05-10T17:57:36Z</dcterms:modified>
  <cp:revision>55</cp:revision>
  <dc:subject/>
  <dc:title>Slide 1</dc:title>
</cp:coreProperties>
</file>